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BF23-4EF3-46A5-9133-59F738E03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6DD2-15F4-433A-A8D6-EE132526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E634-D5E3-417A-8057-E4C8FCA10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7272-55AE-4F25-8DF2-024191D07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7841-DC7E-40E1-AD51-C21143B76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83D6-3448-4539-8B29-5A18F5C0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CCBC-13A0-4992-951B-5D45CD17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B53C-CAFC-4F0B-B7A9-9E2DF346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ACCC-3E97-4A00-8736-B53E531E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455F-A1EF-4F10-A304-BC6314AC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92B9-B655-4B11-8CAD-558B8D5C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EADA-3341-4651-817A-99F77F99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01A6-1683-44FE-8A56-DBE724DE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F5AC-2E8D-47C3-8273-C8450654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9387-008D-4E42-82DA-DAC72BCA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941D-8971-4C58-B32E-5565E8ED0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0C2F-E7B0-48EF-AF38-5E1F4F97A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BFFD-8976-4014-A73E-4C4C7B70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0151-91A9-4E7B-AB60-59E030FC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1AA1-EFFA-484E-BC9B-029A18A7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6EB6-EB74-4AB5-BAF2-C9641357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0D8C-EBFD-4046-8C9E-B1CFE675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DF9B-9E39-4065-B5DA-A4DA1511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15FE-A673-496F-B1F4-07E63CDA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3D59-EFDB-46D5-AD77-8764CCCE3BAA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720" y="2286000"/>
            <a:ext cx="460872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UŁAMKI ZWYKŁ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014A-B082-4A38-A109-49F9532AEC07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80920" y="2421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PORÓWNYWANIE </a:t>
            </a:r>
            <a:br>
              <a:rPr sz="3600"/>
            </a:b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UŁAMKÓW</a:t>
            </a:r>
            <a:br>
              <a:rPr sz="3600"/>
            </a:b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O TYCH SAMYCH</a:t>
            </a:r>
            <a:br>
              <a:rPr sz="3600"/>
            </a:b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LICZNIK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RZYKŁA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6640" y="967680"/>
            <a:ext cx="801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abcia Marzeny lubi piec ciasta. Przygotowała dwie rolady. Jedną z makiem, a drugą z bitą śmietaną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6640" y="1629720"/>
            <a:ext cx="21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jome zjadł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546280" y="1628640"/>
                <a:ext cx="2160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662360" y="1584360"/>
                <a:ext cx="1526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2725560" y="1627920"/>
            <a:ext cx="20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lady z makiem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42000" y="1627920"/>
            <a:ext cx="37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lady z bitą śmietan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1988280"/>
            <a:ext cx="37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órej rolady zjedzono więcej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511280" y="2708280"/>
          <a:ext cx="301644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2708280"/>
                    <a:ext cx="30164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5157720" y="2708280"/>
          <a:ext cx="2992680" cy="22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57720" y="2708280"/>
                    <a:ext cx="2992680" cy="22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1646280" y="2437200"/>
            <a:ext cx="166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Rolada z maki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46640" y="2392920"/>
            <a:ext cx="23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Rolada z bitą śmietan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32000" y="5272920"/>
            <a:ext cx="52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ięcej zjedzono rolady z bitą śmietaną, za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7000" y="5634000"/>
          <a:ext cx="1620720" cy="961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7000" y="5634000"/>
                    <a:ext cx="162072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7586640" y="3924360"/>
          <a:ext cx="539640" cy="961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86640" y="3924360"/>
                    <a:ext cx="53964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3986280" y="3924360"/>
          <a:ext cx="541440" cy="961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86280" y="3924360"/>
                    <a:ext cx="54144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RZYKŁA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6640" y="1104120"/>
            <a:ext cx="52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Zuzanna i Ola jadły torciki lodowe. Zuzia zjadł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46640" y="1088280"/>
            <a:ext cx="26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rciku lodowego, a O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41280" y="1493280"/>
            <a:ext cx="54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óra z dziewczynek zjadła większą część tort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2000" y="46425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ięcej torciku zjadła Ola, za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967360" y="954000"/>
                <a:ext cx="20952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8596440" y="998640"/>
                <a:ext cx="2617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7" name="" descr=""/>
          <p:cNvPicPr/>
          <p:nvPr/>
        </p:nvPicPr>
        <p:blipFill>
          <a:blip r:embed="rId1"/>
          <a:srcRect l="14354" t="13739" r="21254" b="18131"/>
          <a:stretch/>
        </p:blipFill>
        <p:spPr>
          <a:xfrm>
            <a:off x="2141640" y="2124000"/>
            <a:ext cx="4498920" cy="177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5562720" y="3743280"/>
          <a:ext cx="304560" cy="63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62720" y="3743280"/>
                    <a:ext cx="30456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906640" y="3743280"/>
          <a:ext cx="28260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06640" y="3743280"/>
                    <a:ext cx="2826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3716280" y="5229360"/>
          <a:ext cx="1395360" cy="915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716280" y="5229360"/>
                    <a:ext cx="139536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WNIOS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46280" y="1314360"/>
            <a:ext cx="7993080" cy="3376800"/>
            <a:chOff x="746280" y="1314360"/>
            <a:chExt cx="7993080" cy="3376800"/>
          </a:xfrm>
        </p:grpSpPr>
        <p:sp>
          <p:nvSpPr>
            <p:cNvPr id="137" name=""/>
            <p:cNvSpPr/>
            <p:nvPr/>
          </p:nvSpPr>
          <p:spPr>
            <a:xfrm>
              <a:off x="2044800" y="1654560"/>
              <a:ext cx="516888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Z dwóch ułamków</a:t>
              </a:r>
              <a:br>
                <a:rPr sz="3200"/>
              </a:b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o tych samych licznikac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ten jest większy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który ma mniejsz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mianownik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46280" y="1314360"/>
              <a:ext cx="7993080" cy="3376800"/>
            </a:xfrm>
            <a:prstGeom prst="ellipse">
              <a:avLst/>
            </a:prstGeom>
            <a:noFill/>
            <a:ln w="572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ĆWI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36640" y="1088280"/>
            <a:ext cx="40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ykonując rysunek porównaj ułamk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0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511280" y="1943280"/>
                <a:ext cx="1373040" cy="23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i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i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PORÓWNYWANIE UŁAMKÓW O RÓŻNYCH MIANOWNIK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6280" y="954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46280" y="1132920"/>
            <a:ext cx="81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zy porównywaniu ułamków korzystamy ze znanej nam już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tody „na krzyż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0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92000" y="171864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ównaj ułamk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771640" y="1584360"/>
                <a:ext cx="7113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i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51" name=""/>
          <p:cNvGraphicFramePr/>
          <p:nvPr/>
        </p:nvGraphicFramePr>
        <p:xfrm>
          <a:off x="3176640" y="2390760"/>
          <a:ext cx="1800000" cy="8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6640" y="2390760"/>
                    <a:ext cx="1800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1198080" y="3584520"/>
            <a:ext cx="693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· 13 = 15 ·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1 = 1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1 &lt; 1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· 13 = 15 · 9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w większym iloczynie szukamy licznika ułam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· 13 &lt; 15 ·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511280" y="5273640"/>
                <a:ext cx="92232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&lt;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2771640" y="5407920"/>
            <a:ext cx="454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łamek o znalezionym liczniku jest więks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WNIOS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746280" y="1314360"/>
            <a:ext cx="7993080" cy="3376800"/>
            <a:chOff x="746280" y="1314360"/>
            <a:chExt cx="7993080" cy="3376800"/>
          </a:xfrm>
        </p:grpSpPr>
        <p:sp>
          <p:nvSpPr>
            <p:cNvPr id="160" name=""/>
            <p:cNvSpPr/>
            <p:nvPr/>
          </p:nvSpPr>
          <p:spPr>
            <a:xfrm>
              <a:off x="2066400" y="1899000"/>
              <a:ext cx="51260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orównując ułamki </a:t>
              </a:r>
              <a:br>
                <a:rPr sz="3200"/>
              </a:b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 różnych mianownikach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stosujemy metodę</a:t>
              </a:r>
              <a:br>
                <a:rPr sz="3200"/>
              </a:b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 mnożenia „na krzyż”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280" y="1314360"/>
              <a:ext cx="7993080" cy="3376800"/>
            </a:xfrm>
            <a:prstGeom prst="ellipse">
              <a:avLst/>
            </a:prstGeom>
            <a:noFill/>
            <a:ln w="572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1:39:39Z</dcterms:modified>
  <cp:revision>55</cp:revision>
  <dc:subject/>
  <dc:title>Slajd 1</dc:title>
</cp:coreProperties>
</file>